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9"/>
        <p:sld r:id="rId11"/>
        <p:sld r:id="rId12"/>
        <p:sld r:id="rId13"/>
        <p:sld r:id="rId14"/>
        <p:sld r:id="rId17"/>
        <p:sld r:id="rId18"/>
        <p:sld r:id="rId19"/>
      </p:sldLst>
    </p:custShow>
    <p:custShow name="Transparencies" id="1">
      <p:sldLst>
        <p:sld r:id="rId20"/>
        <p:sld r:id="rId15"/>
        <p:sld r:id="rId3"/>
        <p:sld r:id="rId8"/>
        <p:sld r:id="rId10"/>
        <p:sld r:id="rId16"/>
      </p:sldLst>
    </p:custShow>
    <p:custShow name="Chapter menu" id="2">
      <p:sldLst>
        <p:sld r:id="rId4"/>
        <p:sld r:id="rId5"/>
        <p:sld r:id="rId6"/>
        <p:sld r:id="rId7"/>
        <p:sld r:id="rId9"/>
        <p:sld r:id="rId11"/>
        <p:sld r:id="rId12"/>
        <p:sld r:id="rId13"/>
        <p:sld r:id="rId14"/>
        <p:sld r:id="rId17"/>
        <p:sld r:id="rId18"/>
        <p:sld r:id="rId19"/>
      </p:sldLst>
    </p:custShow>
    <p:custShow name="Section 2" id="3">
      <p:sldLst>
        <p:sld r:id="rId4"/>
        <p:sld r:id="rId5"/>
        <p:sld r:id="rId6"/>
        <p:sld r:id="rId7"/>
        <p:sld r:id="rId9"/>
        <p:sld r:id="rId11"/>
        <p:sld r:id="rId12"/>
        <p:sld r:id="rId13"/>
        <p:sld r:id="rId14"/>
        <p:sld r:id="rId17"/>
        <p:sld r:id="rId1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eral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ing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Properties of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Color, Luster, and Str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Cleavage and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Basic Crystallin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roperties of 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62120" y="35812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804960" y="2457360"/>
            <a:ext cx="73612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Mohs Hardness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rystal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neral crystal forms in one of six basic sha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ertain mineral always has the same general shape because the atoms that form the mineral’s crystals always combine in the same geometric patt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x basic crystal systems are the isometric or cubic system, the orthorhombic system, the tetragonal system, the hexagonal system, the monoclinic system, and the triclinic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019920" cy="361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six basic crystal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ns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nsity of a mineral depends on the kinds of atoms in the mineral and on how closely the atoms are pac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Basic Crystalline System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7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pecial Properties of Minera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minerals have some additional, special properties that can help identify those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luorescence and Phosphores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bility to glow under ultraviolet light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orescent minerals absorb ultraviolet light and then produce visible light of various col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perty of some minerals to glow after the ultraviolet light is turned off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peci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toyancy and Aste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toya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t’s-eye ef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ilar effect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ter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phenomenon in which a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uble Re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perty of some minerals, particularly some forms of calcite, to produce a *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uble refr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peci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383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gnet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erals that are attracted to magnets display the property of magnetism. These minerals may be magnetic themsel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general, nonsilicate minerals that contain iron are more likely to be magnetic than silicate minerals a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o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perty known as radioactivity results as unstable nuclei decay over time into stable nuclei by releasing particles and energ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Geiger counter is used to detect the released particles and, thus, to identify minerals that are radioactiv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32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1947960" y="2133720"/>
            <a:ext cx="5248080" cy="38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and Mineral Production in the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physical properties that help distinguish one mineral from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special properties that may help identify certain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eralog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mineral has specific properties that are the result of its chemical composition and crystalline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perties provide useful clues for identifying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these properties can be identified by simply looking at a sample of the mineral or through simple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55760" y="685800"/>
            <a:ext cx="823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color is a property that is easily observed, it is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or of a mineral sample can be affected by the inclusion of impurities or by weathering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ea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k is more reliable than color for the identification of miner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k is determined by rubbing some of the mineral against an unglazed ceramic tile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eak p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us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neral is said to have a metallic luster if the mineral reflects light as a polished metal d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ther minerals have nonmetallic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several types of nonmetallic luster, including glassy, waxy, pearly, brilliant, and ear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Color, Luster, and Strea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7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eavage and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eav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ra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ev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act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rough surfa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plint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brous fract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k like a piece of broken w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ved surfaces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hoidal fract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Cleavage and Fractu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011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hysical Properties of Minera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ar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rd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ardness does not mean “resistance to cleavage or fractur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dness of a mineral can be determined by comparing the mineral to minerals of Mohs hardness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hs hardness sca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ength of the bonds between the atoms that make up a mineral’s internal structure determines the hardness of a mi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0-21T16:16:33Z</dcterms:modified>
  <cp:revision>756</cp:revision>
  <dc:subject/>
  <dc:title>No Slide Title</dc:title>
</cp:coreProperties>
</file>